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B52E-71FC-401B-9900-9B216323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3492-C418-48F9-B0E7-81F7F98A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AE5-DAA1-4B7A-87AB-EAEA99DC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961B-CBF8-468C-9A11-422F3768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FE9A-FC76-41AD-895F-7F4D5E94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FC14-2CC5-40EA-8F70-898BA8BA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9114-202F-42CC-9B5E-C5715E13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5197-A158-4851-9C18-AD519CFA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1807-F330-440A-9EA6-43503A5E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3994-99FB-4000-9DF5-2DC9E028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3FDE-27B7-44F3-8A34-CEDC2D9D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FFF7-8515-4BE6-8E6E-F8465180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AFC2-E5B2-4E90-9502-A6F002DE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9E4F-F5A3-46D4-8039-7254936A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598B-CE16-47CF-ACB7-86E27789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4721-BC5F-4470-BB1E-3F31D532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BBDA-CC16-403E-B56C-67601390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AD26-E174-4543-9140-09B918C0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F5AE-2EA6-4F7A-97C0-DBC90442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83BC-9CC8-4DA7-869B-E0178636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58F5-7E10-4BAA-953F-C65D11FD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4FBA-98EB-4E68-8A11-A9AB58E8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A9A-E3D3-47DE-B195-7C63F13A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786E-97D3-4AF6-96AB-F69AF15D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44B9-2DAA-44DC-8F29-57A40E3D0210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F29E-901F-463B-A541-A450EC3D67D2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Curlz MT"/>
              </a:rPr>
              <a:t>Stage 1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0000"/>
                </a:solidFill>
                <a:latin typeface="Marker Felt"/>
              </a:rPr>
              <a:t>Hypnagogic Sleep</a:t>
            </a:r>
            <a:endParaRPr b="0" lang="en-US" sz="8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Basic Information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rain waves: low amplitude and high frequenc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Just drifting off”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tage when your body movements are involuntary and stimuli do not affect you as it would when you're awake. May feel as though your body is either doing a sudden action such as falling off a cliff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implicit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 first stage of sleep in a state of sensitive unconsciousnes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dividual m ay be awoken by the slightest stimuli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May experience Myocloni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.e. Short sleep in the bus from school or to schoo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yoclonia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 experience of falling off a cliff or sudden jerks during the first phase of sleep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3:36:06Z</dcterms:created>
  <dc:creator>Ann Yi</dc:creator>
  <dc:description/>
  <dc:language>en-US</dc:language>
  <cp:lastModifiedBy>Ann Yi</cp:lastModifiedBy>
  <dcterms:modified xsi:type="dcterms:W3CDTF">2008-10-06T04:05:25Z</dcterms:modified>
  <cp:revision>2</cp:revision>
  <dc:subject/>
  <dc:title>Stage 1</dc:title>
</cp:coreProperties>
</file>